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F40-A100-4F5A-AB3E-581C95C2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F41-BAA3-4399-824B-4215850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8E3-4A84-427D-9161-A8A66899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761-914F-4EDD-9891-D30CCF8F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D54-1151-4553-8306-A925B1B2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65F-A24B-4B59-BB07-1C0A27D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C8F-EEBF-429A-8AA0-8E72B1D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A2C-A3FA-42BA-82C9-5F889FC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88C-19A6-4B0A-A502-5C97109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DD1-CA77-4E7D-A2A1-1D631C6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E1A-F0E8-4CC7-ADDE-F0FE23C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160-6B1B-4885-82A4-37288698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93E-89B4-4B4B-9A37-0ED8F5D511D5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support on AI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57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8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9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0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1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2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3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4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5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6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7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8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9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0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rriers are misaligned 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2895480"/>
          <a:ext cx="7213680" cy="93348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1760"/>
                <a:gridCol w="762120"/>
                <a:gridCol w="623880"/>
                <a:gridCol w="720720"/>
                <a:gridCol w="83988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3" name="AutoShape 141"/>
          <p:cNvCxnSpPr/>
          <p:nvPr/>
        </p:nvCxnSpPr>
        <p:spPr>
          <a:xfrm>
            <a:off x="2890440" y="335088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Line 142"/>
          <p:cNvSpPr/>
          <p:nvPr/>
        </p:nvSpPr>
        <p:spPr>
          <a:xfrm>
            <a:off x="380880" y="403848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3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4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5"/>
          <p:cNvSpPr/>
          <p:nvPr/>
        </p:nvSpPr>
        <p:spPr>
          <a:xfrm>
            <a:off x="2133720" y="42670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6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7"/>
          <p:cNvSpPr/>
          <p:nvPr/>
        </p:nvSpPr>
        <p:spPr>
          <a:xfrm>
            <a:off x="3429000" y="44197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8"/>
          <p:cNvSpPr/>
          <p:nvPr/>
        </p:nvSpPr>
        <p:spPr>
          <a:xfrm>
            <a:off x="4038480" y="4495680"/>
            <a:ext cx="10670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9"/>
          <p:cNvSpPr/>
          <p:nvPr/>
        </p:nvSpPr>
        <p:spPr>
          <a:xfrm>
            <a:off x="4648320" y="457200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0"/>
          <p:cNvSpPr/>
          <p:nvPr/>
        </p:nvSpPr>
        <p:spPr>
          <a:xfrm>
            <a:off x="5257800" y="4648320"/>
            <a:ext cx="1371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1"/>
          <p:cNvSpPr/>
          <p:nvPr/>
        </p:nvSpPr>
        <p:spPr>
          <a:xfrm>
            <a:off x="5867280" y="4724280"/>
            <a:ext cx="1295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2"/>
          <p:cNvSpPr/>
          <p:nvPr/>
        </p:nvSpPr>
        <p:spPr>
          <a:xfrm>
            <a:off x="6477120" y="480060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3"/>
          <p:cNvSpPr/>
          <p:nvPr/>
        </p:nvSpPr>
        <p:spPr>
          <a:xfrm>
            <a:off x="7162920" y="4876920"/>
            <a:ext cx="16761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6"/>
          <p:cNvSpPr/>
          <p:nvPr/>
        </p:nvSpPr>
        <p:spPr>
          <a:xfrm>
            <a:off x="380880" y="2971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8"/>
          <p:cNvSpPr/>
          <p:nvPr/>
        </p:nvSpPr>
        <p:spPr>
          <a:xfrm>
            <a:off x="3071520" y="409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9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0"/>
          <p:cNvSpPr/>
          <p:nvPr/>
        </p:nvSpPr>
        <p:spPr>
          <a:xfrm>
            <a:off x="1219320" y="40482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1"/>
          <p:cNvSpPr/>
          <p:nvPr/>
        </p:nvSpPr>
        <p:spPr>
          <a:xfrm>
            <a:off x="1809720" y="4248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2"/>
          <p:cNvSpPr/>
          <p:nvPr/>
        </p:nvSpPr>
        <p:spPr>
          <a:xfrm>
            <a:off x="2308320" y="43149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3"/>
          <p:cNvSpPr/>
          <p:nvPr/>
        </p:nvSpPr>
        <p:spPr>
          <a:xfrm>
            <a:off x="383364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4"/>
          <p:cNvSpPr/>
          <p:nvPr/>
        </p:nvSpPr>
        <p:spPr>
          <a:xfrm>
            <a:off x="467172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5"/>
          <p:cNvSpPr/>
          <p:nvPr/>
        </p:nvSpPr>
        <p:spPr>
          <a:xfrm>
            <a:off x="8535600" y="46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8"/>
          <p:cNvSpPr/>
          <p:nvPr/>
        </p:nvSpPr>
        <p:spPr>
          <a:xfrm>
            <a:off x="38088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9"/>
          <p:cNvSpPr/>
          <p:nvPr/>
        </p:nvSpPr>
        <p:spPr>
          <a:xfrm>
            <a:off x="610920" y="295596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6"/>
          <p:cNvSpPr/>
          <p:nvPr/>
        </p:nvSpPr>
        <p:spPr>
          <a:xfrm>
            <a:off x="457200" y="1523880"/>
            <a:ext cx="81691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T symbol event 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best to pick the middle of the range: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3, 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is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dating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AT symbol event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 AT symbol cou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pu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k the value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rom  Message Terminal Count LUT corresponding to the subframe form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f and write it to the AI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D_FRM_MSG_TC[14GrpIndex+symIdx].FRM_MSG_TC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ssage_Terminal_Count_LUT[format][symId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Format for Normal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636560"/>
          <a:ext cx="8077320" cy="2408400"/>
        </p:xfrm>
        <a:graphic>
          <a:graphicData uri="http://schemas.openxmlformats.org/drawingml/2006/table">
            <a:tbl>
              <a:tblPr/>
              <a:tblGrid>
                <a:gridCol w="457200"/>
                <a:gridCol w="152640"/>
                <a:gridCol w="228600"/>
                <a:gridCol w="25200"/>
                <a:gridCol w="179640"/>
                <a:gridCol w="379080"/>
                <a:gridCol w="331920"/>
                <a:gridCol w="225360"/>
                <a:gridCol w="381240"/>
                <a:gridCol w="309240"/>
                <a:gridCol w="428760"/>
                <a:gridCol w="203400"/>
                <a:gridCol w="507960"/>
                <a:gridCol w="609480"/>
                <a:gridCol w="152280"/>
                <a:gridCol w="459000"/>
                <a:gridCol w="226800"/>
                <a:gridCol w="401760"/>
                <a:gridCol w="284040"/>
                <a:gridCol w="395280"/>
                <a:gridCol w="330480"/>
                <a:gridCol w="301320"/>
                <a:gridCol w="473400"/>
                <a:gridCol w="136440"/>
                <a:gridCol w="496800"/>
              </a:tblGrid>
              <a:tr h="579600">
                <a:tc gridSpan="2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ubframe (1ms) –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0,720T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27"/>
          <p:cNvSpPr/>
          <p:nvPr/>
        </p:nvSpPr>
        <p:spPr>
          <a:xfrm>
            <a:off x="1376640" y="4876920"/>
            <a:ext cx="67046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 = (2048 + 160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208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 = (2048 + 144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19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 = (2048 + 512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56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14 symbols by splitting the Gaps into 2 pseudo-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 + G’ = 30720Ts – E – 11X = 35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’’ + G’’’ = 30720Ts – E – N – 10X = 720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2665440"/>
          <a:ext cx="685800" cy="1366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2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981080" y="441972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8" name="Line 702"/>
          <p:cNvSpPr/>
          <p:nvPr/>
        </p:nvSpPr>
        <p:spPr>
          <a:xfrm>
            <a:off x="1676520" y="4038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03"/>
          <p:cNvSpPr/>
          <p:nvPr/>
        </p:nvSpPr>
        <p:spPr>
          <a:xfrm>
            <a:off x="1905120" y="403848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434340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Line 712"/>
          <p:cNvSpPr/>
          <p:nvPr/>
        </p:nvSpPr>
        <p:spPr>
          <a:xfrm flipH="1">
            <a:off x="380880" y="35812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13"/>
          <p:cNvSpPr/>
          <p:nvPr/>
        </p:nvSpPr>
        <p:spPr>
          <a:xfrm>
            <a:off x="1447920" y="35812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720"/>
          <p:cNvCxnSpPr/>
          <p:nvPr/>
        </p:nvCxnSpPr>
        <p:spPr>
          <a:xfrm>
            <a:off x="1371240" y="3127320"/>
            <a:ext cx="108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722"/>
          <p:cNvCxnSpPr/>
          <p:nvPr/>
        </p:nvCxnSpPr>
        <p:spPr>
          <a:xfrm>
            <a:off x="1779120" y="3582720"/>
            <a:ext cx="108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xC PE Frame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4800600"/>
            <a:ext cx="8229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or each group (GrpIdx = 0..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S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 +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SYM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ymLen(SymIdx, Frame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eds to be modified at runtime on transition between Normal and MBSFN Sub-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rmal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1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3520" y="3022560"/>
            <a:ext cx="76197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1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3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4648320"/>
            <a:ext cx="80769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2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4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85800" y="1295280"/>
            <a:ext cx="1905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B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FTC – AIF2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046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990720" y="45720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efore the transmission of each symbol, AIF2 requests a monolithic descriptor containing antenna data do be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GAP pseudo-symbols need associated descriptors with zero antenn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IF2 descriptors are provided by FFTC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provides frequency domain descriptors at the FFTC input, one per symbol, including zero-data descriptors for th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1828800"/>
            <a:ext cx="38098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85800" y="1371600"/>
            <a:ext cx="43434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419720" y="1523880"/>
            <a:ext cx="8380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1981080" y="4114800"/>
            <a:ext cx="548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Gap Pseudo-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ap constr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ultiple of 4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ze supported by F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3657600"/>
          <a:ext cx="8077320" cy="1219320"/>
        </p:xfrm>
        <a:graphic>
          <a:graphicData uri="http://schemas.openxmlformats.org/drawingml/2006/table">
            <a:tbl>
              <a:tblPr/>
              <a:tblGrid>
                <a:gridCol w="1111320"/>
                <a:gridCol w="793800"/>
                <a:gridCol w="990720"/>
                <a:gridCol w="1066680"/>
                <a:gridCol w="717480"/>
                <a:gridCol w="984240"/>
                <a:gridCol w="1041480"/>
                <a:gridCol w="762120"/>
                <a:gridCol w="609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 = G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 = G’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=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=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54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LUT (20MHz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9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311120"/>
          <a:ext cx="7315200" cy="4578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501"/>
          <p:cNvSpPr/>
          <p:nvPr/>
        </p:nvSpPr>
        <p:spPr>
          <a:xfrm>
            <a:off x="76320" y="5958000"/>
            <a:ext cx="90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te: For 10MHz and 5MHz, divide the values in the table by 2 and 4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T Interru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1" name="AutoShape 1040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AutoShape 1042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AutoShape 1043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AutoShape 1044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5" name="AutoShape 1045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6" name="AutoShape 104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7" name="AutoShape 104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8" name="AutoShape 104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9" name="AutoShape 105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0" name="AutoShape 105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1" name="AutoShape 105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2" name="AutoShape 105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AutoShape 105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AutoShape 105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Text Box 1131"/>
          <p:cNvSpPr/>
          <p:nvPr/>
        </p:nvSpPr>
        <p:spPr>
          <a:xfrm>
            <a:off x="533520" y="152388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ume the AT interrupts are generated once every symbol of a Normal  CP sub-frame (non-MBSF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MBSFN symbols are asynchronous with these interrupts (we do not reprogram 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needs to determine what MBSFN symbol to compute on each AT interru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pattern can be irregular; it may affect the memor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3619440"/>
          <a:ext cx="8610840" cy="95256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7" name="AutoShape 1589"/>
          <p:cNvCxnSpPr/>
          <p:nvPr/>
        </p:nvCxnSpPr>
        <p:spPr>
          <a:xfrm flipH="1" flipV="1" rot="5400000">
            <a:off x="379800" y="4575240"/>
            <a:ext cx="610200" cy="602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8" name="AutoShape 1590"/>
          <p:cNvCxnSpPr/>
          <p:nvPr/>
        </p:nvCxnSpPr>
        <p:spPr>
          <a:xfrm flipH="1" flipV="1" rot="5400000">
            <a:off x="988920" y="4581000"/>
            <a:ext cx="610200" cy="59112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9" name="AutoShape 1591"/>
          <p:cNvCxnSpPr/>
          <p:nvPr/>
        </p:nvCxnSpPr>
        <p:spPr>
          <a:xfrm flipH="1" flipV="1" rot="5400000">
            <a:off x="1070640" y="4499280"/>
            <a:ext cx="610200" cy="7545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0" name="AutoShape 1592"/>
          <p:cNvCxnSpPr/>
          <p:nvPr/>
        </p:nvCxnSpPr>
        <p:spPr>
          <a:xfrm flipH="1" flipV="1" rot="5400000">
            <a:off x="1755720" y="4422240"/>
            <a:ext cx="61020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1" name="AutoShape 1593"/>
          <p:cNvCxnSpPr/>
          <p:nvPr/>
        </p:nvCxnSpPr>
        <p:spPr>
          <a:xfrm flipH="1" flipV="1" rot="5400000">
            <a:off x="2367720" y="4348440"/>
            <a:ext cx="610200" cy="10562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2" name="AutoShape 1594"/>
          <p:cNvCxnSpPr/>
          <p:nvPr/>
        </p:nvCxnSpPr>
        <p:spPr>
          <a:xfrm flipH="1" flipV="1" rot="5400000">
            <a:off x="2996280" y="4291200"/>
            <a:ext cx="610200" cy="1170720"/>
          </a:xfrm>
          <a:prstGeom prst="curvedConnector5">
            <a:avLst>
              <a:gd name="adj1" fmla="val 50000"/>
              <a:gd name="adj2" fmla="val 49984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3" name="AutoShape 1595"/>
          <p:cNvCxnSpPr/>
          <p:nvPr/>
        </p:nvCxnSpPr>
        <p:spPr>
          <a:xfrm flipH="1" flipV="1" rot="5400000">
            <a:off x="3736080" y="4268880"/>
            <a:ext cx="595800" cy="1229400"/>
          </a:xfrm>
          <a:prstGeom prst="curvedConnector5">
            <a:avLst>
              <a:gd name="adj1" fmla="val 51148"/>
              <a:gd name="adj2" fmla="val 50000"/>
              <a:gd name="adj3" fmla="val 51148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4" name="AutoShape 1596"/>
          <p:cNvCxnSpPr/>
          <p:nvPr/>
        </p:nvCxnSpPr>
        <p:spPr>
          <a:xfrm flipH="1" flipV="1" rot="5400000">
            <a:off x="4736880" y="4507920"/>
            <a:ext cx="610200" cy="73728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5" name="AutoShape 1597"/>
          <p:cNvCxnSpPr/>
          <p:nvPr/>
        </p:nvCxnSpPr>
        <p:spPr>
          <a:xfrm flipH="1" flipV="1" rot="5400000">
            <a:off x="5364000" y="4511160"/>
            <a:ext cx="610200" cy="73080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6" name="AutoShape 1598"/>
          <p:cNvCxnSpPr/>
          <p:nvPr/>
        </p:nvCxnSpPr>
        <p:spPr>
          <a:xfrm flipH="1" flipV="1" rot="5400000">
            <a:off x="6009840" y="4436280"/>
            <a:ext cx="610200" cy="880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7" name="AutoShape 1599"/>
          <p:cNvCxnSpPr/>
          <p:nvPr/>
        </p:nvCxnSpPr>
        <p:spPr>
          <a:xfrm flipH="1" flipV="1" rot="5400000">
            <a:off x="6737040" y="4323600"/>
            <a:ext cx="610200" cy="1105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8" name="AutoShape 1600"/>
          <p:cNvCxnSpPr/>
          <p:nvPr/>
        </p:nvCxnSpPr>
        <p:spPr>
          <a:xfrm flipH="1" flipV="1" rot="5400000">
            <a:off x="7387200" y="4338720"/>
            <a:ext cx="610200" cy="107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9" name="AutoShape 1601"/>
          <p:cNvCxnSpPr/>
          <p:nvPr/>
        </p:nvCxnSpPr>
        <p:spPr>
          <a:xfrm>
            <a:off x="1671120" y="409536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4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5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6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7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8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9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2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3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4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5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6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unsafe to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within some time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within the group,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-3+14)%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857680"/>
          <a:ext cx="8610840" cy="95220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9" name="AutoShape 155"/>
          <p:cNvCxnSpPr/>
          <p:nvPr/>
        </p:nvCxnSpPr>
        <p:spPr>
          <a:xfrm>
            <a:off x="1671120" y="333324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Line 158"/>
          <p:cNvSpPr/>
          <p:nvPr/>
        </p:nvSpPr>
        <p:spPr>
          <a:xfrm>
            <a:off x="380880" y="4038480"/>
            <a:ext cx="6098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9"/>
          <p:cNvSpPr/>
          <p:nvPr/>
        </p:nvSpPr>
        <p:spPr>
          <a:xfrm>
            <a:off x="990720" y="4114800"/>
            <a:ext cx="6094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1600200" y="4191120"/>
            <a:ext cx="533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1"/>
          <p:cNvSpPr/>
          <p:nvPr/>
        </p:nvSpPr>
        <p:spPr>
          <a:xfrm>
            <a:off x="1676520" y="4267080"/>
            <a:ext cx="10666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2"/>
          <p:cNvSpPr/>
          <p:nvPr/>
        </p:nvSpPr>
        <p:spPr>
          <a:xfrm>
            <a:off x="1752480" y="4343400"/>
            <a:ext cx="1676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3"/>
          <p:cNvSpPr/>
          <p:nvPr/>
        </p:nvSpPr>
        <p:spPr>
          <a:xfrm>
            <a:off x="2514600" y="441972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4"/>
          <p:cNvSpPr/>
          <p:nvPr/>
        </p:nvSpPr>
        <p:spPr>
          <a:xfrm>
            <a:off x="3124080" y="449568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5"/>
          <p:cNvSpPr/>
          <p:nvPr/>
        </p:nvSpPr>
        <p:spPr>
          <a:xfrm>
            <a:off x="3809880" y="457200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6"/>
          <p:cNvSpPr/>
          <p:nvPr/>
        </p:nvSpPr>
        <p:spPr>
          <a:xfrm>
            <a:off x="4648320" y="464832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7"/>
          <p:cNvSpPr/>
          <p:nvPr/>
        </p:nvSpPr>
        <p:spPr>
          <a:xfrm>
            <a:off x="5334120" y="472428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8"/>
          <p:cNvSpPr/>
          <p:nvPr/>
        </p:nvSpPr>
        <p:spPr>
          <a:xfrm>
            <a:off x="6019920" y="480060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9"/>
          <p:cNvSpPr/>
          <p:nvPr/>
        </p:nvSpPr>
        <p:spPr>
          <a:xfrm>
            <a:off x="6781680" y="48769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0"/>
          <p:cNvSpPr/>
          <p:nvPr/>
        </p:nvSpPr>
        <p:spPr>
          <a:xfrm>
            <a:off x="7543800" y="49528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1"/>
          <p:cNvSpPr/>
          <p:nvPr/>
        </p:nvSpPr>
        <p:spPr>
          <a:xfrm>
            <a:off x="8305920" y="502920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2"/>
          <p:cNvSpPr/>
          <p:nvPr/>
        </p:nvSpPr>
        <p:spPr>
          <a:xfrm>
            <a:off x="17524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3"/>
          <p:cNvSpPr/>
          <p:nvPr/>
        </p:nvSpPr>
        <p:spPr>
          <a:xfrm>
            <a:off x="34290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4"/>
          <p:cNvSpPr/>
          <p:nvPr/>
        </p:nvSpPr>
        <p:spPr>
          <a:xfrm>
            <a:off x="3071520" y="411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5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6"/>
          <p:cNvSpPr/>
          <p:nvPr/>
        </p:nvSpPr>
        <p:spPr>
          <a:xfrm>
            <a:off x="1219320" y="38577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7"/>
          <p:cNvSpPr/>
          <p:nvPr/>
        </p:nvSpPr>
        <p:spPr>
          <a:xfrm>
            <a:off x="1809720" y="396252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2308320" y="403848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9"/>
          <p:cNvSpPr/>
          <p:nvPr/>
        </p:nvSpPr>
        <p:spPr>
          <a:xfrm>
            <a:off x="358272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0"/>
          <p:cNvSpPr/>
          <p:nvPr/>
        </p:nvSpPr>
        <p:spPr>
          <a:xfrm>
            <a:off x="429084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1"/>
          <p:cNvSpPr/>
          <p:nvPr/>
        </p:nvSpPr>
        <p:spPr>
          <a:xfrm>
            <a:off x="86115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1:02:56Z</dcterms:created>
  <dc:creator>Constantin Bajenaru</dc:creator>
  <dc:description/>
  <dc:language>en-US</dc:language>
  <cp:lastModifiedBy>Tomas, Sebastien</cp:lastModifiedBy>
  <dcterms:modified xsi:type="dcterms:W3CDTF">2013-10-08T08:35:44Z</dcterms:modified>
  <cp:revision>10</cp:revision>
  <dc:subject/>
  <dc:title>MBSFN support on AIF2</dc:title>
</cp:coreProperties>
</file>