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wmf" ContentType="image/x-wmf"/>
  <Override PartName="/ppt/media/image11.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0A2BA-67B9-4C3A-952E-E7C5BAAE6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9A9B8-6E81-4C6F-B80B-8C9D6C1A4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520493-F991-4663-ACB0-063D8731542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B657B20-CD08-4B63-B325-24D4014B68E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B924E23-EB01-421C-BB8F-EBED2C8FCFE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3E1FBB2-BBB8-4EE8-92BC-FE1BCACB603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D0C29A2-E4B0-43CE-8E7A-112ABA0A43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642D37-3228-49E0-A6D5-62D46CC200D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3"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29E5554-5B74-4516-BEF9-42CB0CE6702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7702BA2-0DDC-46A8-BBB8-E00D0944E8C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1"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F179D16-ABA6-453B-A034-79E84EBE5F7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9B39B3C-3C7D-47B0-94FE-EC057FE9CED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03AE7-17E0-40CC-AF74-7E0161946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4"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3B5F6F4-7676-4331-9602-926D3DCFDEE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6"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7FA5284-4314-435A-AE0B-32CB2E74DC4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46B541-DC21-42BA-A003-3CB723D40B0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AE12438-1EB0-4C03-8CB0-ED2E1D4025F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F96E662-B394-4870-9575-5583DD37FBE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84305B6-9DD8-4BBE-8146-885A814472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7F4D302-71DF-4837-AE63-F0976D7B3C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7D149F2-70E6-4254-A831-5552DF3F60A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5"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6F9C0D6-995B-4C7E-B9CE-7E4ED073B95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7EECCD2-E0F4-4B8A-AF9E-AAB869A59CF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955F9-678B-4F66-A7D2-089688FBE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23"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EDCE854-027F-40B1-AB94-70A8DD9CF67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B704DF4-CBE6-4B77-BF0B-D35515B3E62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1"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sldNum" idx="5"/>
          </p:nvPr>
        </p:nvSpPr>
        <p:spPr/>
        <p:txBody>
          <a:bodyPr/>
          <a:p>
            <a:fld id="{FB1626B2-E1E8-4C01-A663-0FB298EBA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84587F09-CC6C-4858-A2B2-BFD214193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9D735DF6-1C07-4754-B50C-1226A6A8F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sldNum" idx="5"/>
          </p:nvPr>
        </p:nvSpPr>
        <p:spPr/>
        <p:txBody>
          <a:bodyPr/>
          <a:p>
            <a:fld id="{E96F2099-5C3B-484C-9FF2-9ED58F8BF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sldNum" idx="5"/>
          </p:nvPr>
        </p:nvSpPr>
        <p:spPr/>
        <p:txBody>
          <a:bodyPr/>
          <a:p>
            <a:fld id="{276321F1-15F8-4417-B7BF-83B8C4275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8F823BD3-150B-4484-84A0-070AED2C2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EF0B-A27B-4CB9-A965-B268DF4B5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4"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EC6F03C7-C64F-4539-AF3F-A1232D0DD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08D56C2E-DDFB-4038-94AF-B74A5D244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2"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D0CAADAE-FD28-4395-9745-9C31C1A07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7E244FB8-4890-4C88-8F0D-7C98FCC94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0"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8C507B90-3E15-4A2D-BFC1-E7A83C2E36C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B29352D-57E9-4C88-B8C1-ED930D5695B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4"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56C39E-6307-4FE7-9387-655EDBB5E6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8BA01E-3827-47A0-BEED-2F7190D4802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C7308D-2915-4FB2-9647-3A5D07E4D3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2378C3-82D6-4410-BBCE-4E656EF210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AEDBC-636B-493C-A5F9-D3D443A49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69F931-4133-4BAB-B9C4-82C8AA905C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41D010-64F5-47C4-8489-4AEE6CE9B8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9EAA0B-1357-4755-979F-E6470B4A50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9D65E5-5558-4332-B9EB-98F9B96994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5"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3AFF03-FA44-4EEE-A232-AE7EE29176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A8A966-D016-4034-B04E-79507DC79B8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3"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2F75810-05BE-4F91-837A-F98B3BE464B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AD5983-A49D-4088-8093-6CDD7979CB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7"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56F0E2-56EA-4B77-8D14-0FD038C413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192FF2-1A52-4A5B-9505-98A6BE318F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3FC0B-9397-482D-B5E9-81C4AFA73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D6B9804-A319-4FD1-8EE7-9B6204167F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EE4AA1-8A13-4789-AF56-5680A4559B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56FB29-0F72-47C0-9B03-8D73EF6DB7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8291D6-1A14-446A-92BF-1F60E6725F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9CFF2A-FD5F-4141-8926-9B19B6D725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C37CAE-942A-4D3C-9540-4C62BD6CD6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8"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FB1A47-3EA8-4B1C-9E05-B4709A0BDE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8394BC-405F-42D8-ADEF-684F1BEBFD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6"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85FD10-429A-46B2-BF30-B463DA5C73F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1B81C13-4D3E-4DC5-A1BB-B95C68E0103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229BE-B6C0-4F04-827B-F473E7598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0"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6A2BD7-6C6F-47CB-AC50-55BC025834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2"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9647743-6EC5-42C7-AE27-2AE0D838391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4"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245F616-8A7E-4B9E-A2E8-4732E56777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B4424F3-5B05-4CC4-A4AE-DFEC1A65B88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C0260C-0FA6-4C24-86BE-3BC19E0005B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FA50B9-7F58-481B-8849-C19DA2CF4C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5208B0-4754-4D98-AB34-1EA822C0B22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4B7954-E221-4442-96C8-66DD76C589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1"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B23FEB-C487-472D-AFAB-B09416ECAAD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D4195EA-2539-4231-8A0C-13E43BB5A27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CDB42-6B81-464C-9107-556845A38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9"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3FAA102-8382-4A52-B2B7-DDCF65323DB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7AED545-5613-4850-8BAD-22912C15BF6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3"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C464D1-0A55-451E-B818-396F0518815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5"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C33E4CC-05F8-4998-B01A-C9A6153588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1CDA92-C1F8-42FC-ADDB-7348BA3685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47B7AA0-F918-467F-B1F6-F0FCBD954C0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213D4B1-B4AB-4F69-A99B-F8392A525F2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DB14F2-5A1B-4FE9-BDD1-F0AF13E80B0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B339B12-E0C2-489F-88DC-059AE22A3F0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0C8D04-F7FE-44C7-824A-A001932ABD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07061-3A72-4A4E-837A-74AB3E365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4"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2E3A09-85FE-4D86-BD85-9BBDEE5EB1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CF23C3A-A590-40B5-BC60-B07803851C4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2"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F6E3D95-B001-48E6-B1A2-070908111C5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7347FC4-7B10-49A3-99B0-1CC6C125EDC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185892D-D5DE-47E5-A573-82DC4D6BE33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647BBEB-2169-4AD8-B773-6DB4A7C8D69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C68AA85-A234-43C2-B90C-FD8E01F0E67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B669E45-10F4-4C78-AE99-570EDFDC5D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F43A546-8724-4675-9C95-07E5EDEC2F5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99FF314-41CD-4E9B-8733-D2FDEE31E63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261B-6A4F-4EB2-94B0-9165068D8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589FDA-A4B3-46FB-8426-8D663AA48F4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157A25-0662-481E-AC3B-5A47A08D701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F600363-5314-4C70-8FB5-42F4F293073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F201ED0-2092-48B8-AFBA-D0D282F2E9F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B5CBFB4-5C75-4B11-A946-5AE779B506F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6D195A2-E926-45F3-848F-AEAD94BB5B4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0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596B46-3F01-4997-A2CD-CA374A56CCE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BFF2DFB-EED9-4413-9B09-14AB0672D05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D41046C-8F71-426A-B2A9-574D276C4AE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6EA5F7-EEB0-4AF3-962E-80862EB80D4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FAB6-8775-4505-8A3A-2C3F7D4E4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717BB9D-AAD2-418F-A818-18C63CF0C59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CAD6812-3828-4AE0-9FE7-E8230C94F72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12FA8E-A12B-44D3-9ADC-A6B97F1383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7F5B20-3313-47EC-8EF4-C88754E6568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0DB8E93-64A4-4A26-B16C-AED59578A1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72A16C8-871E-4626-AF86-A9826428084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D40EBBB-829F-45A5-B856-2CEC3CC6A65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4324BCD-C7B7-45B7-B072-A40AA8A52EA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2"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370CDD-B647-4565-A2DA-1C36730A3FD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4"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2D8C38-D84B-4F1A-BFE0-B9E83DC82E85}"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629400" y="6418440"/>
            <a:ext cx="1136520" cy="280800"/>
          </a:xfrm>
          <a:prstGeom prst="rect">
            <a:avLst/>
          </a:prstGeom>
          <a:ln w="0">
            <a:noFill/>
          </a:ln>
        </p:spPr>
      </p:pic>
      <p:sp>
        <p:nvSpPr>
          <p:cNvPr id="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55680" y="642276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2819160" y="6400440"/>
            <a:ext cx="342900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6641640" y="642276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0CAC-9910-41B4-BEE0-7EADFB00ECC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87" name="" descr=""/>
          <p:cNvPicPr/>
          <p:nvPr/>
        </p:nvPicPr>
        <p:blipFill>
          <a:blip r:embed="rId2"/>
          <a:stretch/>
        </p:blipFill>
        <p:spPr>
          <a:xfrm>
            <a:off x="6629400" y="6418440"/>
            <a:ext cx="1136520" cy="280800"/>
          </a:xfrm>
          <a:prstGeom prst="rect">
            <a:avLst/>
          </a:prstGeom>
          <a:ln w="0">
            <a:noFill/>
          </a:ln>
        </p:spPr>
      </p:pic>
      <p:sp>
        <p:nvSpPr>
          <p:cNvPr id="388"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89" name="PlaceHolder 2"/>
          <p:cNvSpPr>
            <a:spLocks noGrp="1"/>
          </p:cNvSpPr>
          <p:nvPr>
            <p:ph type="dt" idx="27"/>
          </p:nvPr>
        </p:nvSpPr>
        <p:spPr>
          <a:xfrm>
            <a:off x="355680" y="645624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90" name="PlaceHolder 3"/>
          <p:cNvSpPr>
            <a:spLocks noGrp="1"/>
          </p:cNvSpPr>
          <p:nvPr>
            <p:ph type="ftr" idx="28"/>
          </p:nvPr>
        </p:nvSpPr>
        <p:spPr>
          <a:xfrm>
            <a:off x="2743200" y="6436800"/>
            <a:ext cx="3657600" cy="225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91" name="PlaceHolder 4"/>
          <p:cNvSpPr>
            <a:spLocks noGrp="1"/>
          </p:cNvSpPr>
          <p:nvPr>
            <p:ph type="sldNum" idx="29"/>
          </p:nvPr>
        </p:nvSpPr>
        <p:spPr>
          <a:xfrm>
            <a:off x="6641640" y="645624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A7E1-E9CF-4948-84CB-9D4C85CA16F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2"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629400" y="6418440"/>
            <a:ext cx="1136520" cy="280800"/>
          </a:xfrm>
          <a:prstGeom prst="rect">
            <a:avLst/>
          </a:prstGeom>
          <a:ln w="0">
            <a:noFill/>
          </a:ln>
        </p:spPr>
      </p:pic>
      <p:sp>
        <p:nvSpPr>
          <p:cNvPr id="44"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dt" idx="4"/>
          </p:nvPr>
        </p:nvSpPr>
        <p:spPr>
          <a:xfrm>
            <a:off x="355680" y="6422760"/>
            <a:ext cx="2133360" cy="20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sldNum" idx="5"/>
          </p:nvPr>
        </p:nvSpPr>
        <p:spPr>
          <a:xfrm>
            <a:off x="6641640" y="6422760"/>
            <a:ext cx="2133720" cy="20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DEB6-8FDD-433A-A7AF-6989EB224CC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743200" y="6404040"/>
            <a:ext cx="3657600" cy="22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6629400" y="6418440"/>
            <a:ext cx="1136520" cy="280800"/>
          </a:xfrm>
          <a:prstGeom prst="rect">
            <a:avLst/>
          </a:prstGeom>
          <a:ln w="0">
            <a:noFill/>
          </a:ln>
        </p:spPr>
      </p:pic>
      <p:sp>
        <p:nvSpPr>
          <p:cNvPr id="87"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88"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9" name="PlaceHolder 3"/>
          <p:cNvSpPr>
            <a:spLocks noGrp="1"/>
          </p:cNvSpPr>
          <p:nvPr>
            <p:ph type="dt" idx="6"/>
          </p:nvPr>
        </p:nvSpPr>
        <p:spPr>
          <a:xfrm>
            <a:off x="355680" y="645624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0" name="PlaceHolder 4"/>
          <p:cNvSpPr>
            <a:spLocks noGrp="1"/>
          </p:cNvSpPr>
          <p:nvPr>
            <p:ph type="ftr" idx="7"/>
          </p:nvPr>
        </p:nvSpPr>
        <p:spPr>
          <a:xfrm>
            <a:off x="2743200" y="6436800"/>
            <a:ext cx="3657600" cy="225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1" name="PlaceHolder 5"/>
          <p:cNvSpPr>
            <a:spLocks noGrp="1"/>
          </p:cNvSpPr>
          <p:nvPr>
            <p:ph type="sldNum" idx="8"/>
          </p:nvPr>
        </p:nvSpPr>
        <p:spPr>
          <a:xfrm>
            <a:off x="6641640" y="645624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35F9-C209-48AD-98F6-4C55E5D07A70}"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92"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629400" y="6416640"/>
            <a:ext cx="1136520" cy="281160"/>
          </a:xfrm>
          <a:prstGeom prst="rect">
            <a:avLst/>
          </a:prstGeom>
          <a:ln w="0">
            <a:noFill/>
          </a:ln>
        </p:spPr>
      </p:pic>
      <p:sp>
        <p:nvSpPr>
          <p:cNvPr id="130"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1"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2" name="PlaceHolder 3"/>
          <p:cNvSpPr>
            <a:spLocks noGrp="1"/>
          </p:cNvSpPr>
          <p:nvPr>
            <p:ph type="dt" idx="9"/>
          </p:nvPr>
        </p:nvSpPr>
        <p:spPr>
          <a:xfrm>
            <a:off x="355680" y="644508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3" name="PlaceHolder 4"/>
          <p:cNvSpPr>
            <a:spLocks noGrp="1"/>
          </p:cNvSpPr>
          <p:nvPr>
            <p:ph type="ftr" idx="10"/>
          </p:nvPr>
        </p:nvSpPr>
        <p:spPr>
          <a:xfrm>
            <a:off x="3114360" y="6445080"/>
            <a:ext cx="289548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4" name="PlaceHolder 5"/>
          <p:cNvSpPr>
            <a:spLocks noGrp="1"/>
          </p:cNvSpPr>
          <p:nvPr>
            <p:ph type="sldNum" idx="11"/>
          </p:nvPr>
        </p:nvSpPr>
        <p:spPr>
          <a:xfrm>
            <a:off x="6641640" y="644508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5838-FF9A-41DC-BE39-DB6BE475D12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5"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6629400" y="6418440"/>
            <a:ext cx="1136520" cy="280800"/>
          </a:xfrm>
          <a:prstGeom prst="rect">
            <a:avLst/>
          </a:prstGeom>
          <a:ln w="0">
            <a:noFill/>
          </a:ln>
        </p:spPr>
      </p:pic>
      <p:sp>
        <p:nvSpPr>
          <p:cNvPr id="173"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4"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5" name="PlaceHolder 3"/>
          <p:cNvSpPr>
            <a:spLocks noGrp="1"/>
          </p:cNvSpPr>
          <p:nvPr>
            <p:ph type="dt" idx="12"/>
          </p:nvPr>
        </p:nvSpPr>
        <p:spPr>
          <a:xfrm>
            <a:off x="355680" y="644508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176" name="PlaceHolder 4"/>
          <p:cNvSpPr>
            <a:spLocks noGrp="1"/>
          </p:cNvSpPr>
          <p:nvPr>
            <p:ph type="ftr" idx="13"/>
          </p:nvPr>
        </p:nvSpPr>
        <p:spPr>
          <a:xfrm>
            <a:off x="3114360" y="6445080"/>
            <a:ext cx="289548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177" name="PlaceHolder 5"/>
          <p:cNvSpPr>
            <a:spLocks noGrp="1"/>
          </p:cNvSpPr>
          <p:nvPr>
            <p:ph type="sldNum" idx="14"/>
          </p:nvPr>
        </p:nvSpPr>
        <p:spPr>
          <a:xfrm>
            <a:off x="6641640" y="644508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8CE1-85F3-441E-B41A-F1E2E1F96E44}"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178"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6629400" y="6416640"/>
            <a:ext cx="1136520" cy="281160"/>
          </a:xfrm>
          <a:prstGeom prst="rect">
            <a:avLst/>
          </a:prstGeom>
          <a:ln w="0">
            <a:noFill/>
          </a:ln>
        </p:spPr>
      </p:pic>
      <p:sp>
        <p:nvSpPr>
          <p:cNvPr id="216"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17"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18" name="PlaceHolder 3"/>
          <p:cNvSpPr>
            <a:spLocks noGrp="1"/>
          </p:cNvSpPr>
          <p:nvPr>
            <p:ph type="dt" idx="15"/>
          </p:nvPr>
        </p:nvSpPr>
        <p:spPr>
          <a:xfrm>
            <a:off x="355680" y="64670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219" name="PlaceHolder 4"/>
          <p:cNvSpPr>
            <a:spLocks noGrp="1"/>
          </p:cNvSpPr>
          <p:nvPr>
            <p:ph type="ftr" idx="16"/>
          </p:nvPr>
        </p:nvSpPr>
        <p:spPr>
          <a:xfrm>
            <a:off x="2819520" y="6448320"/>
            <a:ext cx="3581280" cy="225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20" name="PlaceHolder 5"/>
          <p:cNvSpPr>
            <a:spLocks noGrp="1"/>
          </p:cNvSpPr>
          <p:nvPr>
            <p:ph type="sldNum" idx="17"/>
          </p:nvPr>
        </p:nvSpPr>
        <p:spPr>
          <a:xfrm>
            <a:off x="6641640" y="64670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0711-7299-4423-ADBC-1F471B946EA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21"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6629400" y="6418440"/>
            <a:ext cx="1136520" cy="280800"/>
          </a:xfrm>
          <a:prstGeom prst="rect">
            <a:avLst/>
          </a:prstGeom>
          <a:ln w="0">
            <a:noFill/>
          </a:ln>
        </p:spPr>
      </p:pic>
      <p:sp>
        <p:nvSpPr>
          <p:cNvPr id="259"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60"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61" name="PlaceHolder 3"/>
          <p:cNvSpPr>
            <a:spLocks noGrp="1"/>
          </p:cNvSpPr>
          <p:nvPr>
            <p:ph type="dt" idx="18"/>
          </p:nvPr>
        </p:nvSpPr>
        <p:spPr>
          <a:xfrm>
            <a:off x="355680" y="645300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262" name="PlaceHolder 4"/>
          <p:cNvSpPr>
            <a:spLocks noGrp="1"/>
          </p:cNvSpPr>
          <p:nvPr>
            <p:ph type="ftr" idx="19"/>
          </p:nvPr>
        </p:nvSpPr>
        <p:spPr>
          <a:xfrm>
            <a:off x="3124080" y="6434280"/>
            <a:ext cx="3191040" cy="225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263" name="PlaceHolder 5"/>
          <p:cNvSpPr>
            <a:spLocks noGrp="1"/>
          </p:cNvSpPr>
          <p:nvPr>
            <p:ph type="sldNum" idx="20"/>
          </p:nvPr>
        </p:nvSpPr>
        <p:spPr>
          <a:xfrm>
            <a:off x="6641640" y="645300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8E4E-8DBF-438F-B29C-49D88EAF2E53}"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26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6629400" y="6416640"/>
            <a:ext cx="1136520" cy="281160"/>
          </a:xfrm>
          <a:prstGeom prst="rect">
            <a:avLst/>
          </a:prstGeom>
          <a:ln w="0">
            <a:noFill/>
          </a:ln>
        </p:spPr>
      </p:pic>
      <p:sp>
        <p:nvSpPr>
          <p:cNvPr id="302"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03"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04" name="PlaceHolder 3"/>
          <p:cNvSpPr>
            <a:spLocks noGrp="1"/>
          </p:cNvSpPr>
          <p:nvPr>
            <p:ph type="dt" idx="21"/>
          </p:nvPr>
        </p:nvSpPr>
        <p:spPr>
          <a:xfrm>
            <a:off x="355680" y="64670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05" name="PlaceHolder 4"/>
          <p:cNvSpPr>
            <a:spLocks noGrp="1"/>
          </p:cNvSpPr>
          <p:nvPr>
            <p:ph type="ftr" idx="22"/>
          </p:nvPr>
        </p:nvSpPr>
        <p:spPr>
          <a:xfrm>
            <a:off x="2819160" y="6448320"/>
            <a:ext cx="3429000" cy="225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06" name="PlaceHolder 5"/>
          <p:cNvSpPr>
            <a:spLocks noGrp="1"/>
          </p:cNvSpPr>
          <p:nvPr>
            <p:ph type="sldNum" idx="23"/>
          </p:nvPr>
        </p:nvSpPr>
        <p:spPr>
          <a:xfrm>
            <a:off x="6641640" y="64670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8FB1-67BD-492E-9997-6502AC17860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7"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6629400" y="6418440"/>
            <a:ext cx="1136520" cy="280800"/>
          </a:xfrm>
          <a:prstGeom prst="rect">
            <a:avLst/>
          </a:prstGeom>
          <a:ln w="0">
            <a:noFill/>
          </a:ln>
        </p:spPr>
      </p:pic>
      <p:sp>
        <p:nvSpPr>
          <p:cNvPr id="3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346"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4"/>
          </p:nvPr>
        </p:nvSpPr>
        <p:spPr>
          <a:xfrm>
            <a:off x="355680" y="644508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48" name="PlaceHolder 4"/>
          <p:cNvSpPr>
            <a:spLocks noGrp="1"/>
          </p:cNvSpPr>
          <p:nvPr>
            <p:ph type="ftr" idx="25"/>
          </p:nvPr>
        </p:nvSpPr>
        <p:spPr>
          <a:xfrm>
            <a:off x="2666880" y="6476760"/>
            <a:ext cx="3810240" cy="174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49" name="PlaceHolder 5"/>
          <p:cNvSpPr>
            <a:spLocks noGrp="1"/>
          </p:cNvSpPr>
          <p:nvPr>
            <p:ph type="sldNum" idx="26"/>
          </p:nvPr>
        </p:nvSpPr>
        <p:spPr>
          <a:xfrm>
            <a:off x="6641640" y="644508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C76C-6351-467C-B12C-51512DE096A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0"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CP3 Decoder Driver Demo</a:t>
            </a:r>
            <a:endParaRPr b="1" lang="en-US" sz="4000" spc="-1" strike="noStrike">
              <a:solidFill>
                <a:srgbClr val="ffffff"/>
              </a:solidFill>
              <a:latin typeface="Arial"/>
            </a:endParaRPr>
          </a:p>
        </p:txBody>
      </p:sp>
      <p:sp>
        <p:nvSpPr>
          <p:cNvPr id="430" name="PlaceHolder 2"/>
          <p:cNvSpPr>
            <a:spLocks noGrp="1"/>
          </p:cNvSpPr>
          <p:nvPr>
            <p:ph type="subTitle"/>
          </p:nvPr>
        </p:nvSpPr>
        <p:spPr>
          <a:xfrm>
            <a:off x="342720" y="3698640"/>
            <a:ext cx="8458200" cy="1485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vi Sankar Korada</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3, 2009</a:t>
            </a:r>
            <a:endParaRPr b="0" lang="en-US" sz="2800" spc="-1" strike="noStrike">
              <a:solidFill>
                <a:srgbClr val="ffffff"/>
              </a:solidFill>
              <a:latin typeface="Arial"/>
            </a:endParaRPr>
          </a:p>
        </p:txBody>
      </p:sp>
      <p:sp>
        <p:nvSpPr>
          <p:cNvPr id="4" name="PlaceHolder 3"/>
          <p:cNvSpPr>
            <a:spLocks noGrp="1"/>
          </p:cNvSpPr>
          <p:nvPr>
            <p:ph type="sldNum" idx="5"/>
          </p:nvPr>
        </p:nvSpPr>
        <p:spPr/>
        <p:txBody>
          <a:bodyPr/>
          <a:p>
            <a:fld id="{FAC35160-B469-4100-875E-9CE616A19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High Level Flow</a:t>
            </a:r>
            <a:endParaRPr b="1" lang="en-US" sz="3600" spc="-1" strike="noStrike">
              <a:solidFill>
                <a:srgbClr val="ff0000"/>
              </a:solidFill>
              <a:latin typeface="Arial"/>
            </a:endParaRPr>
          </a:p>
        </p:txBody>
      </p:sp>
      <p:graphicFrame>
        <p:nvGraphicFramePr>
          <p:cNvPr id="453" name=""/>
          <p:cNvGraphicFramePr/>
          <p:nvPr/>
        </p:nvGraphicFramePr>
        <p:xfrm>
          <a:off x="762120" y="995400"/>
          <a:ext cx="7564320" cy="5253120"/>
        </p:xfrm>
        <a:graphic>
          <a:graphicData uri="http://schemas.openxmlformats.org/presentationml/2006/ole">
            <p:oleObj r:id="rId1" spid="">
              <p:embed/>
              <p:pic>
                <p:nvPicPr>
                  <p:cNvPr id="454" name="" descr=""/>
                  <p:cNvPicPr/>
                  <p:nvPr/>
                </p:nvPicPr>
                <p:blipFill>
                  <a:blip r:embed="rId2"/>
                  <a:stretch/>
                </p:blipFill>
                <p:spPr>
                  <a:xfrm>
                    <a:off x="762120" y="995400"/>
                    <a:ext cx="7564320" cy="525312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65C82A00-FB9B-4107-A541-B093199FAF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details</a:t>
            </a:r>
            <a:endParaRPr b="1" lang="en-US" sz="3600" spc="-1" strike="noStrike">
              <a:solidFill>
                <a:srgbClr val="ff0000"/>
              </a:solidFill>
              <a:latin typeface="Arial"/>
            </a:endParaRPr>
          </a:p>
        </p:txBody>
      </p:sp>
      <p:graphicFrame>
        <p:nvGraphicFramePr>
          <p:cNvPr id="456" name=""/>
          <p:cNvGraphicFramePr/>
          <p:nvPr/>
        </p:nvGraphicFramePr>
        <p:xfrm>
          <a:off x="291960" y="990720"/>
          <a:ext cx="8560080" cy="5257800"/>
        </p:xfrm>
        <a:graphic>
          <a:graphicData uri="http://schemas.openxmlformats.org/presentationml/2006/ole">
            <p:oleObj r:id="rId1" spid="">
              <p:embed/>
              <p:pic>
                <p:nvPicPr>
                  <p:cNvPr id="457" name="" descr=""/>
                  <p:cNvPicPr/>
                  <p:nvPr/>
                </p:nvPicPr>
                <p:blipFill>
                  <a:blip r:embed="rId2"/>
                  <a:stretch/>
                </p:blipFill>
                <p:spPr>
                  <a:xfrm>
                    <a:off x="291960" y="990720"/>
                    <a:ext cx="8560080" cy="525780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D1B0F226-E9C1-4AF6-8B8B-603C02A20D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Initialization)</a:t>
            </a:r>
            <a:endParaRPr b="1" lang="en-US" sz="3600" spc="-1" strike="noStrike">
              <a:solidFill>
                <a:srgbClr val="ff0000"/>
              </a:solidFill>
              <a:latin typeface="Arial"/>
            </a:endParaRPr>
          </a:p>
        </p:txBody>
      </p:sp>
      <p:sp>
        <p:nvSpPr>
          <p:cNvPr id="459"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NumBuf()</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returning the number of buffers required informa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s the buffer requirements based on the size configuration information provid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s the number of buffers required into the pointer provided</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BufDesc()</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the memBuffer structure fields for each buffer requir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memBuffer fields are size, alignment, memory type (volatile or non-volatile), memory class needed,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required two fields from the size configuration structure be set before calling. Size values are computed from the mode and the maxCodeBlocks values.</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in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 with base addresses filled after allocating memor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driver initialization parameters structure which covers all the possible inputs required for the driv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Configuration Parameters Structure for TCP3 decod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P Core ID</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code blocks possible in any sub-fram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EDMA3 LLD handl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 channels for Ping and Pong, etc</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called once to setup driver for the operating mode as specified in the control configuration parameter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initializes all the internal buffers and instances with the memBuffer structure value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all the required resources provided through the driver init structure – for example EDMA channels, PaRAMs,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the TCP3D internal state machine by writing into the common Configuration registers (mode, emulation, execu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all the known fields in the pseudo PaRAM memory based on the mode to make the enqueue function as light as possible</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izes the EDMA3 PaRAM entries of all the allocated physical channels with the known values at this time</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5762C052-E043-4B02-A71B-EEA70394F2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a:t>
            </a:r>
            <a:endParaRPr b="1" lang="en-US" sz="3600" spc="-1" strike="noStrike">
              <a:solidFill>
                <a:srgbClr val="ff0000"/>
              </a:solidFill>
              <a:latin typeface="Arial"/>
            </a:endParaRPr>
          </a:p>
        </p:txBody>
      </p:sp>
      <p:sp>
        <p:nvSpPr>
          <p:cNvPr id="461"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ubFrmRese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of the status array buffer for the sub-frame where the status output will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ode blocks in the sub-frame</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driver instance with the input argum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es the driver sub-frame variables to the default value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ts the pseudo PaRAM fields and allocated EDMA channel PaRAM fields</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enqueCodeBlock()</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prepared input configuration registers memor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Block length valu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input LLR data streams (systematic, parity0 and parity1)</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between the input LLR stream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where the output hard decisions to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Flag</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is to be called in the run-time for appending the code blocks to the input lists. This function appends the code blocks alternately among the Ping and Pong lists which are used for loading into either the Ping or Pong memories of TCP3 Decoder.</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is function copies the input configuration registers memory to the appropriate location in the initialization time allocated buffer arra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Hard Decision pseudo PaRAM entries to enable the chaining from the previous one in the list</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LLR pseudo PaRAM entries with the given pointers and values according to the mod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checks for the end of the list using the subFrmCodeBlocks value set when the sub-frame reset function is called, so as to generate completion interrupts for Ping and Pong path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F97E3751-C026-4147-822B-660CD15AD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 (cont..)</a:t>
            </a:r>
            <a:endParaRPr b="1" lang="en-US" sz="3600" spc="-1" strike="noStrike">
              <a:solidFill>
                <a:srgbClr val="ff0000"/>
              </a:solidFill>
              <a:latin typeface="Arial"/>
            </a:endParaRPr>
          </a:p>
        </p:txBody>
      </p:sp>
      <p:sp>
        <p:nvSpPr>
          <p:cNvPr id="463"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rt()</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pass a valid command to choose ping or pong list to be started using the startFlag in the instance before calling this API, otherwise this API does nothing and returns No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starting the input data transfers to the TCP3 decoder ping or pong memories.</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control()</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control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control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doing specific things in the driver as defined by the control commands.</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tus()</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status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status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providing specific information from the driver instance as defined by the status commands. For example one can use this to get the state of the drive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B73D7B0C-7F7A-4F1F-9535-0552AF2573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Utility APIs</a:t>
            </a:r>
            <a:endParaRPr b="1" lang="en-US" sz="3600" spc="-1" strike="noStrike">
              <a:solidFill>
                <a:srgbClr val="ff0000"/>
              </a:solidFill>
              <a:latin typeface="Arial"/>
            </a:endParaRPr>
          </a:p>
        </p:txBody>
      </p:sp>
      <p:sp>
        <p:nvSpPr>
          <p:cNvPr id="465" name="PlaceHolder 2"/>
          <p:cNvSpPr>
            <a:spLocks noGrp="1"/>
          </p:cNvSpPr>
          <p:nvPr>
            <p:ph/>
          </p:nvPr>
        </p:nvSpPr>
        <p:spPr>
          <a:xfrm>
            <a:off x="333000" y="914040"/>
            <a:ext cx="8505720" cy="5062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final IC registers memory for the current code block</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memory create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whether to generate fixed registers (genFixedRegs) or copy from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the decoder type</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place all parameters into appropriate fields into the given final IC registers memory from the input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genFixedRegs flag is NULL, then fixed registers are copied from the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3GPP type decoder, IC12-14 are always zeroed</a:t>
            </a: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Fixed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registers memory</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es the fixed portions of temporary register memory from the parameters sen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value is used to determine which fixed registers are prepar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8AA8AB72-1871-44B3-A057-AC0CA0C033E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mo Overview</a:t>
            </a:r>
            <a:endParaRPr b="1" lang="en-US" sz="3600" spc="-1" strike="noStrike">
              <a:solidFill>
                <a:srgbClr val="ff0000"/>
              </a:solidFill>
              <a:latin typeface="Arial"/>
            </a:endParaRPr>
          </a:p>
        </p:txBody>
      </p:sp>
      <p:sp>
        <p:nvSpPr>
          <p:cNvPr id="432" name="PlaceHolder 2"/>
          <p:cNvSpPr>
            <a:spLocks noGrp="1"/>
          </p:cNvSpPr>
          <p:nvPr>
            <p:ph/>
          </p:nvPr>
        </p:nvSpPr>
        <p:spPr>
          <a:xfrm>
            <a:off x="333360" y="1185840"/>
            <a:ext cx="8467920" cy="513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of the TCP3 Decoder driv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hieve Maximum throughput from the deco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the idle times of the TCP3 decoder eng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the CPU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look at the design id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see in dem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est cases running back to back – each test case represents one frame of code bloc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also show the measured throughput values using the current Nyquist simulat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1EFCB260-012F-4C50-AB28-6485864E7F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Operating Modes</a:t>
            </a:r>
            <a:endParaRPr b="1" lang="en-US" sz="3600" spc="-1" strike="noStrike">
              <a:solidFill>
                <a:srgbClr val="ff0000"/>
              </a:solidFill>
              <a:latin typeface="Arial"/>
            </a:endParaRPr>
          </a:p>
        </p:txBody>
      </p:sp>
      <p:sp>
        <p:nvSpPr>
          <p:cNvPr id="434" name="PlaceHolder 2"/>
          <p:cNvSpPr>
            <a:spLocks noGrp="1"/>
          </p:cNvSpPr>
          <p:nvPr>
            <p:ph/>
          </p:nvPr>
        </p:nvSpPr>
        <p:spPr>
          <a:xfrm>
            <a:off x="333360" y="1185840"/>
            <a:ext cx="8467920" cy="513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Buffer Mode (LTE, WIMA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ndependent input memory sets are used for input transfers, but the decoding will happen only after reading the previous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P decoders are used with one input data memory s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Mode (HSUPA+, WCD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nput and output memory sets are used independent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P decoders are used independently to operate with two independent memory se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37D5E2EB-2E24-4894-B96F-273AD9395F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4560" y="-360"/>
            <a:ext cx="883908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Idea</a:t>
            </a:r>
            <a:endParaRPr b="1" lang="en-US" sz="3600" spc="-1" strike="noStrike">
              <a:solidFill>
                <a:srgbClr val="ff0000"/>
              </a:solidFill>
              <a:latin typeface="Arial"/>
            </a:endParaRPr>
          </a:p>
        </p:txBody>
      </p:sp>
      <p:graphicFrame>
        <p:nvGraphicFramePr>
          <p:cNvPr id="436" name=""/>
          <p:cNvGraphicFramePr/>
          <p:nvPr/>
        </p:nvGraphicFramePr>
        <p:xfrm>
          <a:off x="304920" y="2895480"/>
          <a:ext cx="8534160" cy="3351240"/>
        </p:xfrm>
        <a:graphic>
          <a:graphicData uri="http://schemas.openxmlformats.org/presentationml/2006/ole">
            <p:oleObj r:id="rId1" spid="">
              <p:embed/>
              <p:pic>
                <p:nvPicPr>
                  <p:cNvPr id="437" name="" descr=""/>
                  <p:cNvPicPr/>
                  <p:nvPr/>
                </p:nvPicPr>
                <p:blipFill>
                  <a:blip r:embed="rId2"/>
                  <a:stretch/>
                </p:blipFill>
                <p:spPr>
                  <a:xfrm>
                    <a:off x="304920" y="2895480"/>
                    <a:ext cx="8534160" cy="3351240"/>
                  </a:xfrm>
                  <a:prstGeom prst="rect">
                    <a:avLst/>
                  </a:prstGeom>
                  <a:ln w="0">
                    <a:noFill/>
                  </a:ln>
                </p:spPr>
              </p:pic>
            </p:oleObj>
          </a:graphicData>
        </a:graphic>
      </p:graphicFrame>
      <p:sp>
        <p:nvSpPr>
          <p:cNvPr id="438" name=""/>
          <p:cNvSpPr/>
          <p:nvPr/>
        </p:nvSpPr>
        <p:spPr>
          <a:xfrm>
            <a:off x="304920" y="914400"/>
            <a:ext cx="8534160" cy="1905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rocessing task upon soft bits (LLR) ready perform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queues CBs to TCP3D input pseudo PaRAM list in L2 which holds the actual PaRAMs prepared.</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 driver copies pseudo PaRAM sets to EDMA PaRAM space and executes them.</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arts TCP3D driver if it is not running. This can be done by polling the stop flag or by using ISR function.</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processing task can be triggered by enabling the driver to generate interrupt on decoding a specific code block.</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BD2632C2-3365-4497-9C07-D064D2A00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360"/>
            <a:ext cx="89154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Timing Diagram – 3 code blocks</a:t>
            </a:r>
            <a:endParaRPr b="1" lang="en-US" sz="3600" spc="-1" strike="noStrike">
              <a:solidFill>
                <a:srgbClr val="ff0000"/>
              </a:solidFill>
              <a:latin typeface="Arial"/>
            </a:endParaRPr>
          </a:p>
        </p:txBody>
      </p:sp>
      <p:graphicFrame>
        <p:nvGraphicFramePr>
          <p:cNvPr id="440" name=""/>
          <p:cNvGraphicFramePr/>
          <p:nvPr/>
        </p:nvGraphicFramePr>
        <p:xfrm>
          <a:off x="152280" y="1943280"/>
          <a:ext cx="8839440" cy="3466800"/>
        </p:xfrm>
        <a:graphic>
          <a:graphicData uri="http://schemas.openxmlformats.org/presentationml/2006/ole">
            <p:oleObj r:id="rId1" spid="">
              <p:embed/>
              <p:pic>
                <p:nvPicPr>
                  <p:cNvPr id="441" name="" descr=""/>
                  <p:cNvPicPr/>
                  <p:nvPr/>
                </p:nvPicPr>
                <p:blipFill>
                  <a:blip r:embed="rId2"/>
                  <a:stretch/>
                </p:blipFill>
                <p:spPr>
                  <a:xfrm>
                    <a:off x="152280" y="1943280"/>
                    <a:ext cx="8839440" cy="346680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9D51CD2A-7AF8-4681-8473-654098AD5C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sk Flow Example</a:t>
            </a:r>
            <a:endParaRPr b="1" lang="en-US" sz="3600" spc="-1" strike="noStrike">
              <a:solidFill>
                <a:srgbClr val="ff0000"/>
              </a:solidFill>
              <a:latin typeface="Arial"/>
            </a:endParaRPr>
          </a:p>
        </p:txBody>
      </p:sp>
      <p:graphicFrame>
        <p:nvGraphicFramePr>
          <p:cNvPr id="443" name=""/>
          <p:cNvGraphicFramePr/>
          <p:nvPr/>
        </p:nvGraphicFramePr>
        <p:xfrm>
          <a:off x="550800" y="1566720"/>
          <a:ext cx="8032680" cy="3927600"/>
        </p:xfrm>
        <a:graphic>
          <a:graphicData uri="http://schemas.openxmlformats.org/presentationml/2006/ole">
            <p:oleObj r:id="rId1" spid="">
              <p:embed/>
              <p:pic>
                <p:nvPicPr>
                  <p:cNvPr id="444" name="" descr=""/>
                  <p:cNvPicPr/>
                  <p:nvPr/>
                </p:nvPicPr>
                <p:blipFill>
                  <a:blip r:embed="rId2"/>
                  <a:stretch/>
                </p:blipFill>
                <p:spPr>
                  <a:xfrm>
                    <a:off x="550800" y="1566720"/>
                    <a:ext cx="8032680" cy="392760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25515B10-40F7-4017-B975-316EE323E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mo Details</a:t>
            </a:r>
            <a:endParaRPr b="1" lang="en-US" sz="3600" spc="-1" strike="noStrike">
              <a:solidFill>
                <a:srgbClr val="ff0000"/>
              </a:solidFill>
              <a:latin typeface="Arial"/>
            </a:endParaRPr>
          </a:p>
        </p:txBody>
      </p:sp>
      <p:sp>
        <p:nvSpPr>
          <p:cNvPr id="446" name="PlaceHolder 2"/>
          <p:cNvSpPr>
            <a:spLocks noGrp="1"/>
          </p:cNvSpPr>
          <p:nvPr>
            <p:ph/>
          </p:nvPr>
        </p:nvSpPr>
        <p:spPr>
          <a:xfrm>
            <a:off x="333360" y="990360"/>
            <a:ext cx="8467920" cy="5257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etup Descrip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enerated test vector files used with specified configuration</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and De-initialization are done at the begin and end of each test cas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task used for enqueue code block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 task wakes up on complete interrupt to verify the decoded bit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st case is like a sub-frame of code block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ase Descrip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0</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MAX and Double Buffer mode</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code blocks (each around ~400 bits)</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0 length used : 64</a:t>
            </a:r>
            <a:endParaRPr b="0" lang="en-US" sz="16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1</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 and Double Buffer mode</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de blocks (each around ~1100 bits)</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0 length used : 32</a:t>
            </a:r>
            <a:endParaRPr b="0" lang="en-US" sz="16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2 (takes time for reading test vectors)</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 and Double Buffer mode</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de blocks (each has 6144 bits)</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0 length used : 64</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C6E7F389-25AE-48BA-8D93-7AC7EB4073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UP</a:t>
            </a:r>
            <a:endParaRPr b="1" lang="en-US" sz="4000" spc="-1" strike="noStrike">
              <a:solidFill>
                <a:srgbClr val="000000"/>
              </a:solidFill>
              <a:latin typeface="Arial"/>
            </a:endParaRPr>
          </a:p>
        </p:txBody>
      </p:sp>
      <p:sp>
        <p:nvSpPr>
          <p:cNvPr id="448" name="PlaceHolder 2"/>
          <p:cNvSpPr>
            <a:spLocks noGrp="1"/>
          </p:cNvSpPr>
          <p:nvPr>
            <p:ph/>
          </p:nvPr>
        </p:nvSpPr>
        <p:spPr>
          <a:xfrm>
            <a:off x="342720" y="3657240"/>
            <a:ext cx="84582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0"/>
          </p:nvPr>
        </p:nvSpPr>
        <p:spPr/>
        <p:txBody>
          <a:bodyPr/>
          <a:p>
            <a:r>
              <a:t>TI – Proprietary Information. Provided Under NDA</a:t>
            </a:r>
          </a:p>
        </p:txBody>
      </p:sp>
      <p:sp>
        <p:nvSpPr>
          <p:cNvPr id="5" name="PlaceHolder 4"/>
          <p:cNvSpPr>
            <a:spLocks noGrp="1"/>
          </p:cNvSpPr>
          <p:nvPr>
            <p:ph type="sldNum" idx="11"/>
          </p:nvPr>
        </p:nvSpPr>
        <p:spPr/>
        <p:txBody>
          <a:bodyPr/>
          <a:p>
            <a:fld id="{79194BC6-F6BB-4CC7-B859-04420D1D4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Timing Diagram – 8 code blocks</a:t>
            </a:r>
            <a:endParaRPr b="1" lang="en-US" sz="3600" spc="-1" strike="noStrike">
              <a:solidFill>
                <a:srgbClr val="ff0000"/>
              </a:solidFill>
              <a:latin typeface="Arial"/>
            </a:endParaRPr>
          </a:p>
        </p:txBody>
      </p:sp>
      <p:graphicFrame>
        <p:nvGraphicFramePr>
          <p:cNvPr id="450" name=""/>
          <p:cNvGraphicFramePr/>
          <p:nvPr/>
        </p:nvGraphicFramePr>
        <p:xfrm>
          <a:off x="152280" y="914400"/>
          <a:ext cx="8763120" cy="5334120"/>
        </p:xfrm>
        <a:graphic>
          <a:graphicData uri="http://schemas.openxmlformats.org/presentationml/2006/ole">
            <p:oleObj r:id="rId1" spid="">
              <p:embed/>
              <p:pic>
                <p:nvPicPr>
                  <p:cNvPr id="451" name="" descr=""/>
                  <p:cNvPicPr/>
                  <p:nvPr/>
                </p:nvPicPr>
                <p:blipFill>
                  <a:blip r:embed="rId2"/>
                  <a:stretch/>
                </p:blipFill>
                <p:spPr>
                  <a:xfrm>
                    <a:off x="152280" y="914400"/>
                    <a:ext cx="8763120" cy="533412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E657FB85-F104-4A80-B6F9-93778E2FD4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0756906</cp:lastModifiedBy>
  <dcterms:modified xsi:type="dcterms:W3CDTF">2009-09-04T12:38:28Z</dcterms:modified>
  <cp:revision>2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